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32A-74A9-4CCF-BD6A-F43D46F1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E74-BE9C-4F92-9501-6FCF2AC4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964-759F-49F8-9EA1-BE021E42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AF4-6A35-4F90-B5E7-6ACF4B24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6446-9D9A-4C0E-A56A-E39A3E1B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315-F405-4F6F-B675-9A20C9F0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BBB9-EAFE-4935-8547-AE6988B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287D-E520-49BD-978C-23B4567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4BA8-CDE4-43E4-862A-144A824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1907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E100-CD3F-4007-8125-2FFA6361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D817-7DEE-4106-AD9F-8B2B64C2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926-7786-4486-8AFA-28EAAFC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6ADD-9351-4E08-AFDA-0C46E202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3377-BEFB-42E4-A12B-9E9EC9B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27D-09B0-4BA7-AEE2-F103523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3341-F0D1-43CB-ABEF-E2943BE7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4952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53107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FED3-3C55-444F-9A67-F3DDB4BE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791-F47A-4ED5-A7D8-9489D5D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726-712B-40B9-B3CC-A69CFF34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6A7-3938-4362-9AC5-93B6DD8D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1907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6FC-941D-4FC2-BAFF-C4C74CD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816-8AE8-4292-B940-9D481CA2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3107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A91-B594-48BE-9F39-EF7AB78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952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3107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E57-87D3-411C-81DD-E259DF2E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693-0C9E-4C53-A62F-F619F340931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F90E-C4F4-43E9-8F73-132F33F4C9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6500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21Z</dcterms:modified>
  <cp:revision>31</cp:revision>
  <dc:subject/>
  <dc:title>幻灯片 1</dc:title>
</cp:coreProperties>
</file>